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olumna"/>
          <p:cNvPicPr/>
          <p:nvPr/>
        </p:nvPicPr>
        <p:blipFill>
          <a:blip r:embed="rId3"/>
          <a:stretch/>
        </p:blipFill>
        <p:spPr>
          <a:xfrm>
            <a:off x="0" y="0"/>
            <a:ext cx="141768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Logotipo CDB"/>
          <p:cNvPicPr/>
          <p:nvPr/>
        </p:nvPicPr>
        <p:blipFill>
          <a:blip r:embed="rId4"/>
          <a:stretch/>
        </p:blipFill>
        <p:spPr>
          <a:xfrm>
            <a:off x="7978680" y="6186600"/>
            <a:ext cx="1165320" cy="67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3"/>
          <p:cNvSpPr/>
          <p:nvPr/>
        </p:nvSpPr>
        <p:spPr>
          <a:xfrm>
            <a:off x="7164360" y="5805360"/>
            <a:ext cx="180036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39640" y="17002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 EN ACTIVIDAD QUIRÚRGICA PROGRAMADA: GESTIÓN ENFERMERA EN HEMOTE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427640" y="3645000"/>
            <a:ext cx="2585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Vidal Rico Elena.                                                                                   Grosson García Fernando.                                                                                                                                  Vidal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ico</a:t>
            </a: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 Sonia.                                                                                    Martínez Albir Emilio.                                                              Sánchez Campos M. Hi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516640"/>
            <a:ext cx="1512720" cy="115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6093000"/>
            <a:ext cx="20160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NEH Octu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cc0000"/>
                </a:solidFill>
                <a:uFillTx/>
                <a:latin typeface="Arial"/>
              </a:rPr>
              <a:t>COMPLICACIONES DE LA TRANS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ORIGEN NO INMU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Transmisión de agentes infecci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Hemosiderosis postransfu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3860640"/>
            <a:ext cx="5184720" cy="273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¿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QUE POLITICA SEGUIMOS EN EL CHGU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cc0000"/>
                </a:solidFill>
                <a:uFillTx/>
                <a:latin typeface="Arial"/>
              </a:rPr>
              <a:t>HAY QUE EVITAR QUE LLEGUEN PACIENTES A QUIRÓFANO CON HB&lt;13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050920" y="1773360"/>
            <a:ext cx="5185080" cy="2950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7812000" y="26028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ocer l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ficacia de  los programas de ahorro de sangr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en este caso la estimulación con Eritropoyetina, en intervenciones de prótesis de rod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ocer la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tividad de la Consulta de Enfermería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de Hemoterapia (LH30) desde su aper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ocer las distinta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uncion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que l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Enfermería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tien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ntro del Laboratorio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 y ver como estas van cambiando y evolucionando al ritmo de las nece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7812000" y="26028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TERIAL Y METO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amos a describir los distintos programas de ahorro de hemoderivados utilizados en el Consorcio Hos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eneral Universitario de Val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alizaremos un estudio sobre 66 pacientes, todos ellos sometidos a intervenciones  de rodilla, prótesis totales o recambio de prótesis, en  un mismo espacio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alizaremos una revisión en el código de citación LH30 para ver la actividad de la consulta de Enfermería desde su aper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7812000" y="26028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IRCUITO DE PACIEN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flipH="1" flipV="1">
            <a:off x="387360" y="1484280"/>
            <a:ext cx="6984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Organization Chart 6"/>
          <p:cNvGrpSpPr/>
          <p:nvPr/>
        </p:nvGrpSpPr>
        <p:grpSpPr>
          <a:xfrm>
            <a:off x="353160" y="1341360"/>
            <a:ext cx="8452080" cy="5180040"/>
            <a:chOff x="353160" y="1341360"/>
            <a:chExt cx="8452080" cy="5180040"/>
          </a:xfrm>
        </p:grpSpPr>
        <p:cxnSp>
          <p:nvCxnSpPr>
            <p:cNvPr id="95" name="_s1028"/>
            <p:cNvCxnSpPr>
              <a:endCxn id="96" idx="3"/>
            </p:cNvCxnSpPr>
            <p:nvPr/>
          </p:nvCxnSpPr>
          <p:spPr>
            <a:xfrm flipH="1" flipV="1" rot="5400000">
              <a:off x="5823000" y="2835720"/>
              <a:ext cx="3907440" cy="2057040"/>
            </a:xfrm>
            <a:prstGeom prst="bentConnector4">
              <a:avLst>
                <a:gd name="adj1" fmla="val 2920"/>
                <a:gd name="adj2" fmla="val 35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endCxn id="98" idx="2"/>
            </p:cNvCxnSpPr>
            <p:nvPr/>
          </p:nvCxnSpPr>
          <p:spPr>
            <a:xfrm flipV="1" rot="16200000">
              <a:off x="1477080" y="4197240"/>
              <a:ext cx="937440" cy="218520"/>
            </a:xfrm>
            <a:prstGeom prst="bentConnector3">
              <a:avLst>
                <a:gd name="adj1" fmla="val 121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030"/>
            <p:cNvCxnSpPr>
              <a:stCxn id="96" idx="1"/>
              <a:endCxn id="100" idx="2"/>
            </p:cNvCxnSpPr>
            <p:nvPr/>
          </p:nvCxnSpPr>
          <p:spPr>
            <a:xfrm flipH="1" flipV="1" rot="10800000">
              <a:off x="467280" y="1910520"/>
              <a:ext cx="1487160" cy="4382640"/>
            </a:xfrm>
            <a:prstGeom prst="bentConnector4">
              <a:avLst>
                <a:gd name="adj1" fmla="val -7675"/>
                <a:gd name="adj2" fmla="val 1052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31"/>
            <p:cNvCxnSpPr>
              <a:endCxn id="96" idx="2"/>
            </p:cNvCxnSpPr>
            <p:nvPr/>
          </p:nvCxnSpPr>
          <p:spPr>
            <a:xfrm flipH="1" flipV="1" rot="5400000">
              <a:off x="3389040" y="3504960"/>
              <a:ext cx="2282400" cy="213120"/>
            </a:xfrm>
            <a:prstGeom prst="bentConnector3">
              <a:avLst>
                <a:gd name="adj1" fmla="val 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32"/>
            <p:cNvCxnSpPr/>
            <p:nvPr/>
          </p:nvCxnSpPr>
          <p:spPr>
            <a:xfrm flipH="1" flipV="1" rot="5400000">
              <a:off x="4709160" y="4985280"/>
              <a:ext cx="547200" cy="168480"/>
            </a:xfrm>
            <a:prstGeom prst="bentConnector3">
              <a:avLst>
                <a:gd name="adj1" fmla="val 208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3"/>
            <p:cNvCxnSpPr/>
            <p:nvPr/>
          </p:nvCxnSpPr>
          <p:spPr>
            <a:xfrm flipH="1" flipV="1" rot="5400000">
              <a:off x="2915280" y="1225440"/>
              <a:ext cx="619200" cy="3153960"/>
            </a:xfrm>
            <a:prstGeom prst="bentConnector3">
              <a:avLst>
                <a:gd name="adj1" fmla="val 1061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4"/>
            <p:cNvSpPr/>
            <p:nvPr/>
          </p:nvSpPr>
          <p:spPr>
            <a:xfrm>
              <a:off x="468360" y="1341360"/>
              <a:ext cx="8336520" cy="112932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CONSULTA PREANESTES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Tipo de cirugía: PTR, PTC e instrumentación de raqui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Sangrado estimado aproximado; 1000c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5"/>
            <p:cNvSpPr/>
            <p:nvPr/>
          </p:nvSpPr>
          <p:spPr>
            <a:xfrm>
              <a:off x="828000" y="3069720"/>
              <a:ext cx="2020320" cy="768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Hb 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Arial"/>
                </a:rPr>
                <a:t>&lt;10 g/d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6"/>
            <p:cNvSpPr/>
            <p:nvPr/>
          </p:nvSpPr>
          <p:spPr>
            <a:xfrm>
              <a:off x="3441960" y="3018960"/>
              <a:ext cx="2356560" cy="8420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Hb 10 – 13 g/d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7"/>
            <p:cNvSpPr/>
            <p:nvPr/>
          </p:nvSpPr>
          <p:spPr>
            <a:xfrm>
              <a:off x="3636360" y="4581000"/>
              <a:ext cx="2309040" cy="14522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EPO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Fe/folico/B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8"/>
            <p:cNvSpPr/>
            <p:nvPr/>
          </p:nvSpPr>
          <p:spPr>
            <a:xfrm>
              <a:off x="6400800" y="3090960"/>
              <a:ext cx="2270880" cy="6966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Hb </a:t>
              </a: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Arial"/>
                </a:rPr>
                <a:t>&gt;</a:t>
              </a: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 13 g/d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898200" y="4652640"/>
              <a:ext cx="2112480" cy="16401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Interconsulta 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Hematolog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Estudio de l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Anem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40"/>
            <p:cNvSpPr/>
            <p:nvPr/>
          </p:nvSpPr>
          <p:spPr>
            <a:xfrm>
              <a:off x="6660360" y="4581000"/>
              <a:ext cx="2082240" cy="1539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Fe/folico/B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¿EPO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</a:rPr>
                <a:t>Uso compas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2"/>
          <p:cNvSpPr/>
          <p:nvPr/>
        </p:nvSpPr>
        <p:spPr>
          <a:xfrm>
            <a:off x="1979640" y="649116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e podrá asociar y/o autotransfusión a criterio facult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7812000" y="26028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21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UTO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TIMULACION CON ERITROPOYET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ERROTERAPIA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71640" y="5084640"/>
            <a:ext cx="180036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219640" y="3789360"/>
            <a:ext cx="1800360" cy="187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076720" y="1557360"/>
            <a:ext cx="2232000" cy="1511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UTOTRANS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 HAY RIESGO DE TRANSMISIÓN VIRAL, REACCIONES TRANSFUSIONALES INMUNOLÓGICAS E INMUNO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TIMULA ERITROPOY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SEGURA SOPORTE HEMOTERAPICO EN PACIENTES CON FENOTIPOS RA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JORA LOS PARÁMETROS DE COA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DUCE LA ESTANCIA HOSPIT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1341360"/>
            <a:ext cx="216036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 EVITA LA CONTAMINACIÓN BACTER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COMPATIBILIDAD ABO POR ERRO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BRETRANS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IESGO DE ANEMIA PREOPE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LERANCIA A LA DO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STE EFECTIVIDAD DUDOSA SI LA CIRUGIA NO TIENE UN INDICE TRANSFUSIONAL SUPERIOR AL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43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CONTRAIND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Hb  &lt;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erología positiva HIV, Hep C, Hep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IAM o ACV seis meses previos. Angina in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Estenosis aórtica gr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Epilep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HTA grave o incontro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Déficit de Fe, ac. Fólico vit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Ins. Respiratoria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Bacteriemia o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Procesos infecciosos agu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Dificultad  de punción ve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3716280"/>
            <a:ext cx="3240360" cy="252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STIMULACION CON ERITROPOYETINA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EP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Factor de crecimiento hematopoyé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Producida por las células peritub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intersticiales del riñón e hígado (90% y 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Es el factor regulador de la eritropoy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u síntesis depende directamente de la hipó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El objeto de la protocolización de las técnicas de ahorro de hemoderivados es que ningún paciente acuda a quirófano con una Hb menor de 13 g/d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Para conseguir este objetivo se han implantado una serie de protocolos que incluyen la estimulación con eritropoyetina, la suplementación con ferroterapia endovenosa/oral, acido fólico y vitamina B12, y la inclusión en un programa de donación autóloga preopera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Dada la complejidad del medio en que desarrollamos nuestra actividad, se hace necesaria una coordinación interdepartamental, es aquí donde la Enfermería tiene un papel fundamental por su cualificación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Con la implantación de estos protocolos se consigue evitar los efectos adversos de la transfusión homolo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7812000" y="33336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INDICACIONES DE EPO SEGÚN FICH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Cirugía mayor ortopédica con Hb preope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entre 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10-13 g/dl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en los q se prevé una pérdid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sangre entre </a:t>
            </a:r>
            <a:r>
              <a:rPr b="0" i="1" lang="es-ES" sz="2400" spc="-1" strike="noStrike">
                <a:solidFill>
                  <a:srgbClr val="cc0000"/>
                </a:solidFill>
                <a:latin typeface="Arial"/>
              </a:rPr>
              <a:t>900-1800ml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y que no entran en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rograma de autotrans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95640" y="4653000"/>
            <a:ext cx="47527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CONTRAIND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HIPERSENSIBILIDAD A EPO o derivados de células de mamíferos o albúm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ANTEDECENTES/RIESGO DE ENFERMEDAD TROMBOEMBÓ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IMPOSIBILIDAD DE RECIBIR PROFILAXIS TROMBOEMBÓ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HTA NO CONTRO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CORONARIOPATIA, ARTERIOPATIA PERFERICA, ISQUEMIA CAROTIDEA O CEREBROVASCULAR GRAVE, IAM/A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APLASIA DE CELULAS RO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PRECAUCION EN ANTECEDENTES DE CRISIS CONVULSIVAS O I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20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0000"/>
                </a:solidFill>
                <a:latin typeface="Arial"/>
              </a:rPr>
              <a:t>PRECAUCION EN HB BASAL &gt;13g/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INDICACIONES FUERA DE FICH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CIRUGIA MAYOR CON ALTO RIESGO TRANSFU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ACIENTES CON Hb&gt;13G/DL Y ELEVADO RIESGO TRANSFU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PACIENTES CON SEROLOGIA POSITIVA A VIH, VHC,VH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TESTIGOS DE JE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FECTO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ACCIÓN LOCAL EN LUGAR DE INYECCIÓN, ERUPCIÓN CUT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PERTENS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QUICARD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ÁUSEAS, VÓM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FICULTAD RESPIRA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4201"/>
              </a:spcBef>
              <a:buNone/>
              <a:tabLst>
                <a:tab algn="l" pos="0"/>
                <a:tab algn="ctr" pos="2857680"/>
                <a:tab algn="ctr" pos="4952880"/>
                <a:tab algn="ct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84360" y="1484280"/>
            <a:ext cx="7734240" cy="332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9080">
              <a:spcBef>
                <a:spcPts val="4062"/>
              </a:spcBef>
              <a:tabLst>
                <a:tab algn="l" pos="0"/>
                <a:tab algn="ctr" pos="2857680"/>
                <a:tab algn="ctr" pos="4952880"/>
                <a:tab algn="ctr" pos="7048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00000" y="5299920"/>
            <a:ext cx="7489800" cy="77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29052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00"/>
                </a:solidFill>
                <a:latin typeface="Arial"/>
              </a:rPr>
              <a:t>40.000 UI una vez por seman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0000"/>
                </a:solidFill>
                <a:latin typeface="Arial"/>
              </a:rPr>
              <a:t>Complementar con hierro oral, vit B12 y ac fo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765000"/>
            <a:ext cx="8532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1563840" y="2268360"/>
            <a:ext cx="0" cy="1595520"/>
          </a:xfrm>
          <a:prstGeom prst="line">
            <a:avLst/>
          </a:prstGeom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147320" y="1914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Día 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933480" y="3044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40.000 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619280" y="3789360"/>
            <a:ext cx="614376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 flipV="1">
            <a:off x="4048200" y="3940920"/>
            <a:ext cx="1204920" cy="42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3635280" y="2268360"/>
            <a:ext cx="0" cy="1595520"/>
          </a:xfrm>
          <a:prstGeom prst="line">
            <a:avLst/>
          </a:prstGeom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219120" y="1914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Día 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05280" y="3044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40.000 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5724360" y="2276640"/>
            <a:ext cx="0" cy="1595160"/>
          </a:xfrm>
          <a:prstGeom prst="line">
            <a:avLst/>
          </a:prstGeom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5348160" y="19144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Día 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076720" y="3044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40.000 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7770960" y="2268360"/>
            <a:ext cx="0" cy="1595520"/>
          </a:xfrm>
          <a:prstGeom prst="line">
            <a:avLst/>
          </a:prstGeom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589800" y="191448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00"/>
                </a:solidFill>
                <a:latin typeface="Arial"/>
              </a:rPr>
              <a:t>Día después de ciru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7140600" y="30448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40.000 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1380240" y="417204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Una inyección subcutánea de 40.000 UI, los días -21, -14, y -7</a:t>
            </a:r>
            <a:br>
              <a:rPr sz="1800"/>
            </a:b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previos a la cirugía, y una el día de la interve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4" descr=""/>
          <p:cNvPicPr/>
          <p:nvPr/>
        </p:nvPicPr>
        <p:blipFill>
          <a:blip r:embed="rId4"/>
          <a:stretch/>
        </p:blipFill>
        <p:spPr>
          <a:xfrm>
            <a:off x="1030320" y="2481120"/>
            <a:ext cx="106056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4" name="Picture 25" descr=""/>
          <p:cNvPicPr/>
          <p:nvPr/>
        </p:nvPicPr>
        <p:blipFill>
          <a:blip r:embed="rId5"/>
          <a:stretch/>
        </p:blipFill>
        <p:spPr>
          <a:xfrm>
            <a:off x="3111480" y="2481120"/>
            <a:ext cx="106056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5" name="Picture 26" descr=""/>
          <p:cNvPicPr/>
          <p:nvPr/>
        </p:nvPicPr>
        <p:blipFill>
          <a:blip r:embed="rId6"/>
          <a:stretch/>
        </p:blipFill>
        <p:spPr>
          <a:xfrm>
            <a:off x="5184720" y="2481120"/>
            <a:ext cx="106056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6" name="Picture 27" descr=""/>
          <p:cNvPicPr/>
          <p:nvPr/>
        </p:nvPicPr>
        <p:blipFill>
          <a:blip r:embed="rId7"/>
          <a:stretch/>
        </p:blipFill>
        <p:spPr>
          <a:xfrm>
            <a:off x="7256520" y="2481120"/>
            <a:ext cx="1060560" cy="22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7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AS DE AHORRO DE SANG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HIERRO OR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Ferrosanol®: 100 mg en ayunas 2  al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(1/2h antes o 2h después de las comi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HIERRO IV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Venofer®. Según pauta Hemató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Ind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Intolerancia digestiva al Fe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alabsorción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Anemia asociada a enfermedades c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Déficit funcional de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Necesidad de corrección rápida de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Incumplimiento del Tto 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516720" y="2708280"/>
            <a:ext cx="237636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STUDIO REALIZADO EN NUESTRO 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Estudiamos dos gru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33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pacientes estimulados con Eritopoyetina, de ello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29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mujeres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hombres, con una edad media d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72,18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años y una hemoglobina media previa a la estimulación d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11,65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g./d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33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pacientes no estimulados con Eritropoyetina,de ello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27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mujeres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6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hombres, su edad media es d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71,45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años y una hemoglobina media previa a la cirugía de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13,9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 g./d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STUDIO REALIZADO EN NUESTRO 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RESULTADOS: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En el grupo de paciente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stimulad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con Eritropoyetina, se observó un ascenso de 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hemoglobina media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hast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13,1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g./dl. en el preoperatorio. Se transfundier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pacientes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(9,09%)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urante la intervención, por pérdidas hemorrágicas elevadas. No recibieron transfusión ningún paciente durante el postope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De los paciente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no estimulado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se transfundier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(36,36%),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e el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8 (24.24%)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durante la intervención,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4 (12,12%)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en el postope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STUDIO REALIZADO EN NUESTRO 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432160" y="1681200"/>
          <a:ext cx="4587840" cy="458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2160" y="1681200"/>
                    <a:ext cx="45878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CLUSION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Se demuestra que la administración de eritropoyetina aumenta la concentración de la hemoglobina preoperatoria, disminuyendo el requerimiento transfusional durante la intervención y en el postoperatorio, debido al efecto continuado de la estimulación sobre la línea eritro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El ahorro de sangre justificaría la utilización de eritropoyetina como práctica habitual en la cirugía programada, en pacientes con anemias moderad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EMISAS EN LA MEDICINA TRANSFUSION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139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 MEJOR TRANSFUSIÓN ES LA QUE NO SE H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STRINGIR EL USO DE HEMODERIVADOS MEDIANTE PROTOCOLOS DE MANEJO TRANSFUSIONAL PERIOPE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003640" y="4581360"/>
            <a:ext cx="2880000" cy="187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900000" y="4365720"/>
            <a:ext cx="2519640" cy="208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7812000" y="333360"/>
            <a:ext cx="1008000" cy="719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NCLU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Respecto a la consulta de Enfermería LH30, se han atendido en los más de diez años de existencia, alrededor de 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750 pac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Asimismo se han realizado más de 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3100 visitas</a:t>
            </a: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, tanto en programa de Estimulación con Eritropoyetina, como en la Donación Autológa Predepos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CLUSI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nfermería en el Servicio de Hematología y Hemoterapia, realiza todas las actividades necesarias para dar al paciente una atención integ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Gestiona la recogida del medicamento, lo administra, controla el efecto del mismo y en la última visita al Banco de Sangre pone en contacto al paciente con el Servicio Quirúrgico para recibir los datos del ingr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NCLUSI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Es una realidad que la Enfermería evoluciona en sus funciones al ritmo de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onseguir dar a los pacientes un tratamiento eficiente, seguro y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con la máxima calidad, 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s una prioridad para la Enfermería en nuestr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GRADECIMIENT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- Dr Oscar Díaz, Servicio de Anestesia, Reanimación y Tratamiento del Dolor CHGU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77080" y="1052640"/>
            <a:ext cx="1832040" cy="1311120"/>
          </a:xfrm>
          <a:prstGeom prst="rect">
            <a:avLst/>
          </a:prstGeom>
          <a:ln w="0">
            <a:noFill/>
          </a:ln>
        </p:spPr>
      </p:pic>
      <p:sp>
        <p:nvSpPr>
          <p:cNvPr id="198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Llau Pitarch J.V. Tratado de Medicina Transfusional Perioperatoria. Elsevia España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Dr Oscar Diaz .Protocolización de técnicas de ahorro de sangre., servicio de Anestesia, Reanimación y tratamiento del D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Garcia Erce JA, Solano VM, Cuenca J, Ortega P. La hemoglobina preoperatoria como único factor predictor de las necesidades transfusionales en la artroplastia de rodilla. Rev Esp Anestesiología Reanimac 200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Aderinto J. Brenkel. Pre-operative predictors of the requirement for blood transfusion following total hip replacement. J Bone Joint Surg Br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Castaño J, Castillo J, Escolano F, Montes A y Samsó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Tratamiento preoperatorio para el ahorro de sangre. En evaluación y preparación preoperatoria. Entheos Madrid 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Laupacis A and Fergusson D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Erythropoietin to minimize perioperative blood transfusion: a systematic rewiew of randomized trials. Transf Med 1998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A.I Diez Lobo. Medicina transfusional Perioperatoria. Ergo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Amparo Gosalbo, Rut Navarro, Elena Vidal, Amparo Benlloch, Mª Higinia Sánchez, Ana Auce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cc0000"/>
                </a:solidFill>
                <a:latin typeface="Arial"/>
              </a:rPr>
              <a:t>Evaluación del tratamiento prequirúrgico con eritropoyetina en prótesis de rodilla. CHGU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7956720" y="189000"/>
            <a:ext cx="1008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EMISAS EN MEDICINA TRANSFUSION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58196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 SANGRE MÁS SEGURA ES LA  PRO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UTOTRANSFUSIÓN EN CASOS DE CIRUGÍA CON ALTO RIESGO DE TRANSFU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124000" y="2924280"/>
            <a:ext cx="5112000" cy="3384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EMISAS EN LA MEDICINA TRANSFUSION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643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DEBEMOS SER METICULOSOS…¿POR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N BIEN ES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NSFUNDIR CONLLEVA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IESGOS INMUNOLÓGICOS AGU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AMINACION BACTER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NSMISIÓN DE LA SANGRE TRANSFUN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 ENFERMEDADES VIRALES Y ZOONOSIS (INSECTOS Y ANI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UNOMOD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NVEJ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OMPLICACIONES DE LA TRANSF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gu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ORIGEN INMUN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ORIGEN NO INMUNÓ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tard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ORIGEN INMUN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ORIGEN NO INMUNÓ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1700280"/>
            <a:ext cx="3780000" cy="4392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OMPLICACIONES DE LA TRANSF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AGU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RIGEN INMU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emólisis ag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acción febril no hem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acción al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LI: lesión pulmonar asociada a trans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loinmunización con destrucción plaque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84720" y="1916280"/>
            <a:ext cx="2374920" cy="22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OMPLICACIONES DE LA TRANSF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DE ORIGEN NO INMUNÓ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aminación bacter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brecarga circul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ipot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emólisis no inm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56000" y="4149720"/>
            <a:ext cx="4465440" cy="230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OMPLICACIONES DE LA TRANSF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570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0000"/>
                </a:solidFill>
                <a:uFillTx/>
                <a:latin typeface="Arial"/>
              </a:rPr>
              <a:t>RETARD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ORIGEN INMU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Reacción hemolítica retard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Aloinmunización frente a antígenos eritrocitarios, plaquetarios, leucocitarios o proteínas plasmá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Enfermedad injerto contra hués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Inmunomod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651640" y="1268280"/>
            <a:ext cx="2881080" cy="2376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7885080" y="115920"/>
            <a:ext cx="1008000" cy="719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8:20:45Z</dcterms:created>
  <dc:creator>48406475P</dc:creator>
  <dc:description/>
  <dc:language>en-US</dc:language>
  <cp:lastModifiedBy>20414851M</cp:lastModifiedBy>
  <dcterms:modified xsi:type="dcterms:W3CDTF">2012-09-18T12:13:41Z</dcterms:modified>
  <cp:revision>85</cp:revision>
  <dc:subject/>
  <dc:title>Diapositiva 1</dc:title>
</cp:coreProperties>
</file>